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1DD3-BADD-41C1-8499-76A12E36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83A-1791-4E47-A602-C9ACFF59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F09-E25F-4EBF-867A-9CF9C241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4B8-3C00-4750-ABB7-637ED9DF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62B-6DC6-46A5-8264-8A7ADF10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591-B2C9-4DF9-8636-5C56BE2D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F6B-72C7-45CA-8309-AB2E900D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E8CB-35BD-4A59-B6E2-950185DE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879-8B39-4E49-B058-3EE694FA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EA1-29C9-4763-8FB8-3E7726F2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C2B-7428-454C-9A2D-9226AAEC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5405-2104-4E02-809E-9B6D89C6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zpeč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4E12-916E-46AD-9348-A688A959B86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4643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BEZPEČNOST V POČÍTAČ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0040" y="31428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zpeč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928960" y="357120"/>
            <a:ext cx="57862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čítačová hav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ontent Placeholder 5" descr=""/>
          <p:cNvPicPr/>
          <p:nvPr/>
        </p:nvPicPr>
        <p:blipFill>
          <a:blip r:embed="rId1"/>
          <a:stretch/>
        </p:blipFill>
        <p:spPr>
          <a:xfrm>
            <a:off x="414360" y="1633680"/>
            <a:ext cx="8278920" cy="4547880"/>
          </a:xfrm>
          <a:prstGeom prst="rect">
            <a:avLst/>
          </a:prstGeom>
          <a:ln w="0">
            <a:noFill/>
          </a:ln>
        </p:spPr>
      </p:pic>
      <p:sp>
        <p:nvSpPr>
          <p:cNvPr id="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zpeč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é prográmky které se bez našeho vědomí nainstalují do počítače a vykonávají něco, co se nám většinou moc nelí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nes pochází v drtivé většině z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rana –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oužívání antivirových program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nenavštěvování podezřelých internetových stránek, neotvírání podezřelých příloh mai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zpeč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tv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vast, AVG – pro domácí použití legálně zda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D32 – komer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ton Antivirus – komerční, používá MZ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valita těchto i jiných antivirů je obvykle srovnatel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borný zdroj informací: www.viry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zpeč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y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gram, který je bez našeho vědomí nainstalovaný v počíta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esílá z našeho počítače data, např. o tom, které internetové stránky navštěvuj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pomalují připojení i práci počít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lativně málo nebezpeč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zpeč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tispy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VG AntiSpyware – česky, pro domácí použití zda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d-Aware – pro domácí použití zda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zpeč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eylo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uje, co na počítači děláte – jaké stránky si prohlížíte, co píšete (včetně hesel, čísel karet atd…) a tato data buďto uchovává nebo posílá mai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nutné ho do počítače nainstal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velmi obtížně zjistitel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zpeč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09:13:59Z</dcterms:created>
  <dc:creator>Jiri</dc:creator>
  <dc:description/>
  <dc:language>en-US</dc:language>
  <cp:lastModifiedBy>Jiri Beran</cp:lastModifiedBy>
  <dcterms:modified xsi:type="dcterms:W3CDTF">2007-05-08T19:36:46Z</dcterms:modified>
  <cp:revision>21</cp:revision>
  <dc:subject/>
  <dc:title>Jiří Beran</dc:title>
</cp:coreProperties>
</file>